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511-2DBD-4D3B-8D20-7D7B37F8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FE2-1D54-4E01-969E-43B3D0D8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BCC-5DB5-4074-9350-2E494D45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71B-384D-4B17-BBEC-3B2B80C9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2D7-425F-44C8-AF74-2995576B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D9C-24F2-4961-98E6-F55A2FCB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752-71A3-45E3-B124-55D0B77E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335-F46E-4CBC-A140-4EFC0277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477-399A-4834-BF88-73BB0523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7A5-B088-44DB-9F1C-3191138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A36-71CA-4731-98A0-4D88542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A2B-5DAD-45FB-850B-A716762A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0F9F-EBC8-4BF2-BDE4-316B4F2AA7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56386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1:28Z</dcterms:modified>
  <cp:revision>216</cp:revision>
  <dc:subject/>
  <dc:title>Slide 1</dc:title>
</cp:coreProperties>
</file>